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DB2-3ADE-43B4-970A-F6D3AE95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C8A-83BC-435A-A3CB-CD62346A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6F8-77D4-4166-8D38-DF16125E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698-DDFD-40BA-8CFE-CD713BB6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60C-F155-4FCB-B5F4-7B3CA9C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547-A20C-42BF-99B9-816F5E8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F43-3E76-4E3B-932E-F3A78F0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531-FDEF-4437-B07D-E61F4A2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D31-C94F-4225-AC09-0FFDE71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130-2898-4CF5-9161-8E65C41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FCD-9093-4880-9F72-11AE2C5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07AD-7015-4E7E-99CF-DCB5CD4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E5B-B5E5-4D1D-8409-F821244B7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utin.viperson.ru/data/200812/putin.v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Внешняя политика РФ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овая Концепция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2214720"/>
            <a:ext cx="81439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ь содержание и особенности этапов формирования внешнеполитической доктр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ить причины принятия нов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арактеризовать принципы и установки современной Концеп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чувство уважения к своей стра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ая редакция Концепции внешней политики РФ утверждена в июне 2000 года Президентом РФ В.В.Пути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putin.viperson.ru/data/200812/putin.v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428840"/>
            <a:ext cx="46432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идент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шнеполитические полномоч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РФ в международных отнош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яет основные направления внешней поли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яет руководство внешней политикой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т переговоры и подписывает международные договоры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нституция РФ, статья 8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я\Мои документы\КенджаеваЛП\Открытый урок 2012\konstitucia0007.jpg"/>
          <p:cNvPicPr/>
          <p:nvPr/>
        </p:nvPicPr>
        <p:blipFill>
          <a:blip r:embed="rId1"/>
          <a:stretch/>
        </p:blipFill>
        <p:spPr>
          <a:xfrm>
            <a:off x="4929120" y="164304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ллельно существуют две сферы внешнеполитических интересов Ро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599840"/>
            <a:ext cx="285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ь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ША и ведущие страны Запа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ижнее зарубеж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раны СН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я\Мои документы\КенджаеваЛП\Открытый урок 2012\World-pol.jpg"/>
          <p:cNvPicPr/>
          <p:nvPr/>
        </p:nvPicPr>
        <p:blipFill>
          <a:blip r:embed="rId1"/>
          <a:stretch/>
        </p:blipFill>
        <p:spPr>
          <a:xfrm>
            <a:off x="3000240" y="1571760"/>
            <a:ext cx="6143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льнее зарубежье и страны С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а России по отношению к странам дальнего зарубежья определялась несколькими факто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яжелым социально-политическим положением в ст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лением построить модель демократического общества по американскому и западноевропейскому образц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 правительства США и крупнейших европейских стран оказать поддержку демократическому правитель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этапе – стремление восстановить утраченные после радикальных демократических преобразований и распада СССР внешнеполитические позиции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ым направлением сотрудничества России со странами СНГ стало заключение двусторонних согла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ираясь на текст учебни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§ 75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лните таблицу: «Основные направления внешней политики России в современных условия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0040" y="2071800"/>
          <a:ext cx="8086680" cy="4214880"/>
        </p:xfrm>
        <a:graphic>
          <a:graphicData uri="http://schemas.openxmlformats.org/drawingml/2006/table">
            <a:tbl>
              <a:tblPr/>
              <a:tblGrid>
                <a:gridCol w="2695680"/>
                <a:gridCol w="2695320"/>
                <a:gridCol w="269568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ения внешнеполитиче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ретные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Концеп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понятие, соображения, выводы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октрина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научная или философская теория, система, руководящий теоретический или политический принци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Постиндустриальное обществ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согласно взглядам многих социологов и историков – новая стадия общественного развития, где ведущую роль приобретают сфера услуг, наука и образование, корпорации уступают главное место университетам, а бизнесмены – ученым и специалис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Геополитическое положение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особенности пространственно-географического положения государства (или блока государств) в его воздействии на локальные и глобальные международные процес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теграция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– сближение государств, имеющих общие цели и принципы экономической, социальной политики, политические идеалы, на основе углубления разделения труда, формирования единых пространст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обальные проблемы современ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600200"/>
            <a:ext cx="3929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гроза новой мировой вой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логический кризи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азрыв между развитыми и развивающимися стра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графическая ситуация в ми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народный террор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 организованной преступ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коголизм и нарком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я\Мои документы\КенджаеваЛП\Открытый урок 2012\глобус2.jpg"/>
          <p:cNvPicPr/>
          <p:nvPr/>
        </p:nvPicPr>
        <p:blipFill>
          <a:blip r:embed="rId1"/>
          <a:stretch/>
        </p:blipFill>
        <p:spPr>
          <a:xfrm>
            <a:off x="4357800" y="1643040"/>
            <a:ext cx="4572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я\Мои документы\КенджаеваЛП\Открытый урок 2012\карта росси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формирования внешнеполитической доктр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«прозападного» крена: декабрь 1991 – середина 1990-х. Задача: установление «союзнических» отношений с Запа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чет национальных интересов: середина 1990-х – июнь 2000. Задача: корректировка стратегического курса страны на мировой арене, последовательная защита национальных интере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циональные интересы России в их внешнеполитическом прелом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еспечение надежной безопас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 для устойчивого экономического ро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вышение жизненного уровн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единства и целостности стра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репление основ конституционного поряд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солидация обще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а прав граждан и соотечественников за рубеж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балансирова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ешне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ять в равной мере сотрудничество со странами Запада и Востока, Севера и Ю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аивать последовательно национальные интере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ить дальнейшую интеграцию России в сообщество демократических государств, международные экономические, политические и гуманитарные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Биполярная» модель международных отношений в период «холодной» вой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международных отношений в годы «холодной» войны определялось отношениями между сверхдержавами. Их соперничество носило военно-политический характер. Это предопределяло цикличность послевоенной мировой политики. «Холодная» война была чередой обострений и смягчения международ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февраля 1992 года состоялось подписание Декларации об окончании «холодной»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овые принципы и установк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цепции внешней политик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многополярной системы международных отнош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цип международной безопасности – взаимный учет национальных интересов: центральное место в его реализации принадлежи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представительным и авторитетным международным органом являются ООН и ее специализированные учреждения: Генеральная Ассамблея ООН, Совет Безопасности ООН, Экономический и социальный Совет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Documents and Settings\я\Мои документы\КенджаеваЛП\Открытый урок 2012\250px-The_United_Nations_Building.jpg"/>
          <p:cNvPicPr/>
          <p:nvPr/>
        </p:nvPicPr>
        <p:blipFill>
          <a:blip r:embed="rId1"/>
          <a:stretch/>
        </p:blipFill>
        <p:spPr>
          <a:xfrm>
            <a:off x="4643280" y="1643040"/>
            <a:ext cx="3929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47:18Z</dcterms:created>
  <dc:creator>я</dc:creator>
  <dc:description/>
  <dc:language>en-US</dc:language>
  <cp:lastModifiedBy>Lenovo</cp:lastModifiedBy>
  <dcterms:modified xsi:type="dcterms:W3CDTF">2016-04-24T20:51:50Z</dcterms:modified>
  <cp:revision>78</cp:revision>
  <dc:subject/>
  <dc:title>Слайд 1</dc:title>
</cp:coreProperties>
</file>